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7751880" y="6381720"/>
            <a:ext cx="241200" cy="40968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8066160" y="6489720"/>
            <a:ext cx="718920" cy="214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324000" y="303372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324000" y="447372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3089160"/>
            <a:ext cx="8496000" cy="1312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Технология производства мультимедиа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24000" y="549360"/>
            <a:ext cx="84960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федр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К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.П.Васильк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исциплина «МУЛЬТИМЕДИА ТЕХНОЛОГИ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3860640"/>
            <a:ext cx="84960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ля специальносте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71900 "Информационные системы и технологии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24000" y="657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16000" y="0"/>
            <a:ext cx="8820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Занятие 1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9F56D-EE6C-4434-8E0E-CC5E4FA9E059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1628640"/>
            <a:ext cx="849600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086360" y="3828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8360" y="1197000"/>
            <a:ext cx="7235640" cy="53658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900360" y="692280"/>
            <a:ext cx="720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2bec"/>
                </a:solidFill>
                <a:latin typeface="Arial"/>
              </a:rPr>
              <a:t>Основные этапы производства мультимеди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16000" y="0"/>
            <a:ext cx="8820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39B68-256C-47FD-9F75-0B6C71E51D9F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1628640"/>
            <a:ext cx="849600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35640" y="1017720"/>
            <a:ext cx="0" cy="554328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243080" y="1986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678200" y="1160640"/>
            <a:ext cx="4465800" cy="26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грамм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gner's Edge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ирмы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en Communication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редставляет собой интегрированную инструментальную среду для разработчика стиля проекта (instructional designer], которая автоматически создает такие документы, как исходные цели, конечные группы пользователей, навигационные карты, стратегии разработк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цены и сценар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17440" y="2313000"/>
            <a:ext cx="4067280" cy="16653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52360" y="836640"/>
            <a:ext cx="849636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402560" y="260280"/>
            <a:ext cx="599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2bec"/>
                </a:solidFill>
                <a:latin typeface="Arial"/>
              </a:rPr>
              <a:t>Программы для разработки проек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216000" y="0"/>
            <a:ext cx="8820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2C016-BC32-481A-9D72-A2F142DEA6C7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4000" y="1628640"/>
            <a:ext cx="849600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243080" y="1986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592360" y="1376280"/>
            <a:ext cx="446580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чальный сценарий проек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65752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26920" y="2241720"/>
            <a:ext cx="7490160" cy="34858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396720" y="836640"/>
            <a:ext cx="849636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810160" y="260280"/>
            <a:ext cx="350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2bec"/>
                </a:solidFill>
                <a:latin typeface="Arial"/>
              </a:rPr>
              <a:t>Разработка сценар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89080" y="76500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01A27-373A-44AE-9393-CB916733DF15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1628640"/>
            <a:ext cx="849600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572000" y="1125360"/>
            <a:ext cx="0" cy="489600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43280" y="1962000"/>
            <a:ext cx="403236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32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Образец раскадровки при монтаже видеоклипа «Фабула Алисы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39640" y="2349360"/>
            <a:ext cx="403236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МЕВидеоПрез\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AliceFabRaskadr.av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314520" y="187560"/>
            <a:ext cx="2117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2bec"/>
                </a:solidFill>
                <a:latin typeface="Arial"/>
              </a:rPr>
              <a:t>Раскадров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2be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289080" y="76500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C2868-4B7D-47ED-BC64-85543B049FBC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24000" y="1628640"/>
            <a:ext cx="849600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572000" y="1125360"/>
            <a:ext cx="0" cy="489600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608360" y="1700280"/>
            <a:ext cx="403236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32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Технологии подготовки визуального и аудио материала по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DVD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данны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79280" y="2168640"/>
            <a:ext cx="435636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ЕМЕПрез\МультТехнЕМЕ2.p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727640" y="187560"/>
            <a:ext cx="6025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2bec"/>
                </a:solidFill>
                <a:latin typeface="Arial"/>
              </a:rPr>
              <a:t>Подготовка визуального и аудио ря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2be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89080" y="76500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C96E0-DBA5-4B94-B4C8-3113B357482A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1628640"/>
            <a:ext cx="849600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0" y="1125360"/>
            <a:ext cx="0" cy="489600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08360" y="1700280"/>
            <a:ext cx="403236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32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Технологии подготовки субтитров по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DVD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данны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79280" y="2168640"/>
            <a:ext cx="435636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МЕПрез\МультТехнЕМЕ.p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704680" y="157320"/>
            <a:ext cx="359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2bec"/>
                </a:solidFill>
                <a:latin typeface="Arial"/>
              </a:rPr>
              <a:t>Подготовка субтитр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2be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289080" y="90792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F87A5-B5ED-445F-AEC8-22F6DF62FE60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4000" y="1628640"/>
            <a:ext cx="849600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572000" y="1125360"/>
            <a:ext cx="0" cy="489600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608360" y="1962000"/>
            <a:ext cx="403236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32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Составление сценария, прототипы, 3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D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модел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32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32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Реализованные прототипы и модели в видеоклипах и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3D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сцена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79280" y="2168640"/>
            <a:ext cx="435636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МЕПрез\ПрототипыФаб.p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МЕВидеоПрез\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VirtEnvNFabSnd.av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440720" y="-28800"/>
            <a:ext cx="661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2bec"/>
                </a:solidFill>
                <a:latin typeface="Arial"/>
              </a:rPr>
              <a:t>Технологии мультимедиа при разработк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2bec"/>
                </a:solidFill>
                <a:latin typeface="Arial"/>
              </a:rPr>
              <a:t>электронного учебного пособия ЕМ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2be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0DC6F-8C1B-4B04-BE16-E7A79015D79F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3860640"/>
            <a:ext cx="849600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Использование материалов презент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Использование данной презентации, может осуществляться только при условии соблюдения требований законов  РФ об авторском праве и интеллектуальной собственности, а также с учетом требований настоящего Заяв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резентация является собственностью авторов. Разрешается распечатывать копию любой части презентации для личного некоммерческого использования, однако не допускается распечатывать какую-либо часть презентации с любой иной целью или по каким-либо причинам вносить изменения в любую часть презентации. Использование любой части презентации в другом произведении, как в печатной, электронной, так и иной форме, а также использование любой части презентации в другой презентации посредством ссылки или иным образом допускается только после получения письменного согласия автор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2T06:20:01Z</dcterms:created>
  <dc:creator>S.V.Ryzhkov</dc:creator>
  <dc:description/>
  <dc:language>en-US</dc:language>
  <cp:lastModifiedBy>User</cp:lastModifiedBy>
  <dcterms:modified xsi:type="dcterms:W3CDTF">2009-01-19T04:53:15Z</dcterms:modified>
  <cp:revision>98</cp:revision>
  <dc:subject/>
  <dc:title>Lecture Template </dc:title>
</cp:coreProperties>
</file>